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1.gif" ContentType="image/gif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12.jpeg" ContentType="image/jpeg"/>
  <Override PartName="/ppt/media/image1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CE44A-2CA6-457A-8A6E-E44FD3D6D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62C52-25B4-43E3-95E6-0EC7FB411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2914E-CFE7-4027-B82D-2C1968D91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89482-24C3-4867-8D6C-0D8AD0919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1C8D2-33F6-49AB-BB80-3470032ED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61F4E-3BDB-4771-AAD1-F628D713E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53F4D-413E-43AE-9CA5-993A25FA2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8FBFE-73A3-49F4-865E-C697D679A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BAAA9-7A60-4C10-9147-65D486F69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ECE28-0457-40DF-BF0C-BB6295CF0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3037B-35C7-4C77-B200-759FD31E7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B5E2A-1C23-468B-99C6-303B180EE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D9F0D-54BD-4831-A062-3269070163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120" y="91440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Chapter 10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Mitosis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4" descr="mitosis movie"/>
          <p:cNvPicPr/>
          <p:nvPr/>
        </p:nvPicPr>
        <p:blipFill>
          <a:blip r:embed="rId1"/>
          <a:stretch/>
        </p:blipFill>
        <p:spPr>
          <a:xfrm>
            <a:off x="762120" y="4191120"/>
            <a:ext cx="183024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685800" y="685440"/>
            <a:ext cx="449568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is phase of the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ell cycle is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1602000" y="1828800"/>
            <a:ext cx="221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anapha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4"/>
          <p:cNvSpPr/>
          <p:nvPr/>
        </p:nvSpPr>
        <p:spPr>
          <a:xfrm>
            <a:off x="308520" y="3809880"/>
            <a:ext cx="7403040" cy="18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art of interphase in which the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ell grows to mature size and carrie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out its job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5"/>
          <p:cNvSpPr/>
          <p:nvPr/>
        </p:nvSpPr>
        <p:spPr>
          <a:xfrm>
            <a:off x="3429000" y="5181480"/>
            <a:ext cx="44956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G</a:t>
            </a:r>
            <a:r>
              <a:rPr b="1" lang="en-US" sz="36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6" descr="d-ana"/>
          <p:cNvPicPr/>
          <p:nvPr/>
        </p:nvPicPr>
        <p:blipFill>
          <a:blip r:embed="rId1"/>
          <a:stretch/>
        </p:blipFill>
        <p:spPr>
          <a:xfrm>
            <a:off x="5257800" y="380880"/>
            <a:ext cx="3527280" cy="32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685800" y="685440"/>
            <a:ext cx="769608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hase of mitosis that follows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ropha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3736800" y="1828800"/>
            <a:ext cx="2494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metapha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4"/>
          <p:cNvSpPr/>
          <p:nvPr/>
        </p:nvSpPr>
        <p:spPr>
          <a:xfrm>
            <a:off x="690120" y="3635280"/>
            <a:ext cx="7925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hase of the cell cycle that follows 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3048120" y="4648320"/>
            <a:ext cx="44956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G</a:t>
            </a:r>
            <a:r>
              <a:rPr b="1" lang="en-US" sz="36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685800" y="609480"/>
            <a:ext cx="464832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is phase of th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ell cycle 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1222200" y="1981080"/>
            <a:ext cx="2494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metapha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703440" y="3635280"/>
            <a:ext cx="7461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hase of the cell cycle cell</a:t>
            </a:r>
            <a:r>
              <a:rPr b="1" lang="ja-JP" sz="4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 spe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most of their time i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1066680" y="5319720"/>
            <a:ext cx="44960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G</a:t>
            </a:r>
            <a:r>
              <a:rPr b="1" lang="en-US" sz="36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 of interpha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7" descr="meta green diag"/>
          <p:cNvPicPr/>
          <p:nvPr/>
        </p:nvPicPr>
        <p:blipFill>
          <a:blip r:embed="rId1"/>
          <a:stretch/>
        </p:blipFill>
        <p:spPr>
          <a:xfrm>
            <a:off x="5410080" y="380880"/>
            <a:ext cx="3038760" cy="28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685440" y="685800"/>
            <a:ext cx="746748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Disorder in which body cells lose their ability to control cell divi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4497120" y="2286000"/>
            <a:ext cx="161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canc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685800" y="3635280"/>
            <a:ext cx="5334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One of 2 identical arms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t make up a chromosom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5"/>
          <p:cNvSpPr/>
          <p:nvPr/>
        </p:nvSpPr>
        <p:spPr>
          <a:xfrm>
            <a:off x="2057400" y="5562720"/>
            <a:ext cx="44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chromati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685800" y="68544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DNA that is all spread out in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n interphase nucleus is called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1831320" y="1905120"/>
            <a:ext cx="2437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chromat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387360" y="3200400"/>
            <a:ext cx="7695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hase of mitosis in which the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nuclear membrane and nucleolus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disappear and the DNA scrunches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nto chromosome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2895480" y="5791320"/>
            <a:ext cx="449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propha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685800" y="685800"/>
            <a:ext cx="815328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n this part of interphase cells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make the molecules and organelles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needed for cell division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3290400" y="2438280"/>
            <a:ext cx="72324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G</a:t>
            </a:r>
            <a:r>
              <a:rPr b="1" lang="en-US" sz="4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386640" y="3429000"/>
            <a:ext cx="886896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e 2 copies of each chromosome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re called ______________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hromosomes because are the same size,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ame shape, and carry genes for the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ame trait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2743200" y="4038480"/>
            <a:ext cx="4495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homologou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228240" y="685800"/>
            <a:ext cx="563868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ese structures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t the poles which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ttach  to the spindle fibers and pull the chromosome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4421160" y="3505320"/>
            <a:ext cx="22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centrio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306000" y="4724280"/>
            <a:ext cx="7323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e cell above is in ______phas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4876920" y="4800600"/>
            <a:ext cx="182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me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Picture 6" descr="spindle fibers centrioles"/>
          <p:cNvPicPr/>
          <p:nvPr/>
        </p:nvPicPr>
        <p:blipFill>
          <a:blip r:embed="rId1"/>
          <a:stretch/>
        </p:blipFill>
        <p:spPr>
          <a:xfrm>
            <a:off x="5791320" y="457200"/>
            <a:ext cx="3038400" cy="28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685800" y="685800"/>
            <a:ext cx="73915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en chromatin scrunches together it is called a _________________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3"/>
          <p:cNvSpPr/>
          <p:nvPr/>
        </p:nvSpPr>
        <p:spPr>
          <a:xfrm>
            <a:off x="3660480" y="1066680"/>
            <a:ext cx="2945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chromoso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615600" y="2819520"/>
            <a:ext cx="6328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One of 2 identical arms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t make up a chromoso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5"/>
          <p:cNvSpPr/>
          <p:nvPr/>
        </p:nvSpPr>
        <p:spPr>
          <a:xfrm>
            <a:off x="1600200" y="4876920"/>
            <a:ext cx="266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chromati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7" descr="chromatid arm"/>
          <p:cNvPicPr/>
          <p:nvPr/>
        </p:nvPicPr>
        <p:blipFill>
          <a:blip r:embed="rId1"/>
          <a:stretch/>
        </p:blipFill>
        <p:spPr>
          <a:xfrm>
            <a:off x="6934320" y="4038480"/>
            <a:ext cx="1647720" cy="21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685800" y="685440"/>
            <a:ext cx="769608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hase of mitosis that follows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metapha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3"/>
          <p:cNvSpPr/>
          <p:nvPr/>
        </p:nvSpPr>
        <p:spPr>
          <a:xfrm>
            <a:off x="3735720" y="1828800"/>
            <a:ext cx="221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anapha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320760" y="3352680"/>
            <a:ext cx="818640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hase of the cell cycle that follows G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5"/>
          <p:cNvSpPr/>
          <p:nvPr/>
        </p:nvSpPr>
        <p:spPr>
          <a:xfrm>
            <a:off x="1676520" y="4495680"/>
            <a:ext cx="44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685800" y="685800"/>
            <a:ext cx="373392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is cell is in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3"/>
          <p:cNvSpPr/>
          <p:nvPr/>
        </p:nvSpPr>
        <p:spPr>
          <a:xfrm>
            <a:off x="1144800" y="1295280"/>
            <a:ext cx="221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anapha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685800" y="3635280"/>
            <a:ext cx="8001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hase of cell division in which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e nuclear membrane returns and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hromosomes spread out into chromati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505320" y="5562720"/>
            <a:ext cx="44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telopha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6" descr="alliumanaphase"/>
          <p:cNvPicPr/>
          <p:nvPr/>
        </p:nvPicPr>
        <p:blipFill>
          <a:blip r:embed="rId1"/>
          <a:stretch/>
        </p:blipFill>
        <p:spPr>
          <a:xfrm>
            <a:off x="4724280" y="609480"/>
            <a:ext cx="3530880" cy="243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685800" y="685800"/>
            <a:ext cx="586728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2000"/>
          </a:bodyPr>
          <a:p>
            <a:pPr marL="2124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is spot that holds the 2 chromatid copies together is called a ______________________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1907640" y="2057400"/>
            <a:ext cx="2661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centrome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4"/>
          <p:cNvSpPr/>
          <p:nvPr/>
        </p:nvSpPr>
        <p:spPr>
          <a:xfrm>
            <a:off x="3960" y="3657600"/>
            <a:ext cx="8747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e phase of the cell cyc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n which cells stop dividing all togeth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5"/>
          <p:cNvSpPr/>
          <p:nvPr/>
        </p:nvSpPr>
        <p:spPr>
          <a:xfrm>
            <a:off x="1066680" y="5319720"/>
            <a:ext cx="44960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G</a:t>
            </a:r>
            <a:r>
              <a:rPr b="1" lang="en-US" sz="3600" spc="-1" strike="noStrike" baseline="-25000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6" descr="centromere 2"/>
          <p:cNvPicPr/>
          <p:nvPr/>
        </p:nvPicPr>
        <p:blipFill>
          <a:blip r:embed="rId1"/>
          <a:stretch/>
        </p:blipFill>
        <p:spPr>
          <a:xfrm>
            <a:off x="6781680" y="380880"/>
            <a:ext cx="202104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685440" y="685440"/>
            <a:ext cx="335268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is cell is in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3"/>
          <p:cNvSpPr/>
          <p:nvPr/>
        </p:nvSpPr>
        <p:spPr>
          <a:xfrm>
            <a:off x="1373400" y="1295280"/>
            <a:ext cx="221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telopha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4"/>
          <p:cNvSpPr/>
          <p:nvPr/>
        </p:nvSpPr>
        <p:spPr>
          <a:xfrm>
            <a:off x="456840" y="3429000"/>
            <a:ext cx="75369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e cell above is a _________ cell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imal          pla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4800600" y="3505320"/>
            <a:ext cx="4038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Pla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You can see the cell plate forming in center instead</a:t>
            </a:r>
            <a:br>
              <a:rPr sz="2400"/>
            </a:b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of a cleavage furr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Picture 6" descr="alliumtelophase"/>
          <p:cNvPicPr/>
          <p:nvPr/>
        </p:nvPicPr>
        <p:blipFill>
          <a:blip r:embed="rId1"/>
          <a:stretch/>
        </p:blipFill>
        <p:spPr>
          <a:xfrm>
            <a:off x="4419720" y="533520"/>
            <a:ext cx="3530520" cy="243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304560" y="685440"/>
            <a:ext cx="838188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ubstance that causes canc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2515680" y="1600200"/>
            <a:ext cx="2552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carcinog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4"/>
          <p:cNvSpPr/>
          <p:nvPr/>
        </p:nvSpPr>
        <p:spPr>
          <a:xfrm>
            <a:off x="459360" y="3886200"/>
            <a:ext cx="8437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hase of the cell cycle after S phase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n which cells make the molecules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nd organelles needed for cell divi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3505320" y="5791320"/>
            <a:ext cx="44956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G</a:t>
            </a:r>
            <a:r>
              <a:rPr b="1" lang="en-US" sz="36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304560" y="380880"/>
            <a:ext cx="84582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hase of mitosis in which chromatids separate and move to opposite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ends of the cell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1373400" y="2514600"/>
            <a:ext cx="221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anapha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4"/>
          <p:cNvSpPr/>
          <p:nvPr/>
        </p:nvSpPr>
        <p:spPr>
          <a:xfrm>
            <a:off x="689040" y="3635280"/>
            <a:ext cx="6884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e very first dividing phase is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5"/>
          <p:cNvSpPr/>
          <p:nvPr/>
        </p:nvSpPr>
        <p:spPr>
          <a:xfrm>
            <a:off x="990720" y="4267080"/>
            <a:ext cx="44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propha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685440" y="685440"/>
            <a:ext cx="80010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hase of the cell cycle where cells spend most of their time. They grow bigger and they do their job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s body cell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4662000" y="2819520"/>
            <a:ext cx="72324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G</a:t>
            </a:r>
            <a:r>
              <a:rPr b="1" lang="en-US" sz="4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843480" y="3809880"/>
            <a:ext cx="7489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List the phases of mitosis in order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tarting with interpha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5"/>
          <p:cNvSpPr/>
          <p:nvPr/>
        </p:nvSpPr>
        <p:spPr>
          <a:xfrm>
            <a:off x="914400" y="5181480"/>
            <a:ext cx="7162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Interphase, prophase, metaphase, anaphase, telophase, cytokines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304560" y="457200"/>
            <a:ext cx="419076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is is called a 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3"/>
          <p:cNvSpPr/>
          <p:nvPr/>
        </p:nvSpPr>
        <p:spPr>
          <a:xfrm>
            <a:off x="687600" y="1066680"/>
            <a:ext cx="3806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Cleavage furro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4"/>
          <p:cNvSpPr/>
          <p:nvPr/>
        </p:nvSpPr>
        <p:spPr>
          <a:xfrm>
            <a:off x="684720" y="3635280"/>
            <a:ext cx="68907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is cell is _____________ cell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 animal          a pla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5"/>
          <p:cNvSpPr/>
          <p:nvPr/>
        </p:nvSpPr>
        <p:spPr>
          <a:xfrm>
            <a:off x="3429000" y="3657600"/>
            <a:ext cx="5715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an animal</a:t>
            </a:r>
            <a:br>
              <a:rPr sz="3600"/>
            </a:b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Plants don</a:t>
            </a:r>
            <a:r>
              <a:rPr b="1" lang="ja-JP" sz="2400" spc="-1" strike="noStrike">
                <a:solidFill>
                  <a:srgbClr val="3333cc"/>
                </a:solidFill>
                <a:latin typeface="Arial"/>
              </a:rPr>
              <a:t>’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t have cleavage furrow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Picture 7" descr="cleavage furrow"/>
          <p:cNvPicPr/>
          <p:nvPr/>
        </p:nvPicPr>
        <p:blipFill>
          <a:blip r:embed="rId1"/>
          <a:stretch/>
        </p:blipFill>
        <p:spPr>
          <a:xfrm>
            <a:off x="4419720" y="609480"/>
            <a:ext cx="4114800" cy="27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685800" y="685440"/>
            <a:ext cx="769608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ndition in which a cell grows too big for its DNA to handle the demand for inform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3"/>
          <p:cNvSpPr/>
          <p:nvPr/>
        </p:nvSpPr>
        <p:spPr>
          <a:xfrm>
            <a:off x="1907280" y="2590920"/>
            <a:ext cx="3297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DNA overloa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685800" y="685440"/>
            <a:ext cx="769608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hase of mitosis where the cytoplasm splits into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3"/>
          <p:cNvSpPr/>
          <p:nvPr/>
        </p:nvSpPr>
        <p:spPr>
          <a:xfrm>
            <a:off x="1604520" y="2286000"/>
            <a:ext cx="3704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CYTOKIN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4"/>
          <p:cNvSpPr/>
          <p:nvPr/>
        </p:nvSpPr>
        <p:spPr>
          <a:xfrm>
            <a:off x="538920" y="3352680"/>
            <a:ext cx="7908840" cy="13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Name the phases of the cell cycle in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order starting with G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5"/>
          <p:cNvSpPr/>
          <p:nvPr/>
        </p:nvSpPr>
        <p:spPr>
          <a:xfrm>
            <a:off x="1600200" y="4952880"/>
            <a:ext cx="44956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G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  S    G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2    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M   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228240" y="18288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________________ DNA is all spread out as chromatin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and nuclear membrane is visi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________________ DNA scrunches up and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chromosomes are first visi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________________   Made up of   G1, S, G2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________________  Chromosomes line up in middle of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e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3"/>
          <p:cNvSpPr/>
          <p:nvPr/>
        </p:nvSpPr>
        <p:spPr>
          <a:xfrm>
            <a:off x="152640" y="1752480"/>
            <a:ext cx="282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INTERPH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4"/>
          <p:cNvSpPr/>
          <p:nvPr/>
        </p:nvSpPr>
        <p:spPr>
          <a:xfrm>
            <a:off x="228600" y="3276720"/>
            <a:ext cx="449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PROPH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Rectangle 5"/>
          <p:cNvSpPr/>
          <p:nvPr/>
        </p:nvSpPr>
        <p:spPr>
          <a:xfrm>
            <a:off x="309240" y="4724280"/>
            <a:ext cx="248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INTERPH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6"/>
          <p:cNvSpPr/>
          <p:nvPr/>
        </p:nvSpPr>
        <p:spPr>
          <a:xfrm>
            <a:off x="308880" y="5715000"/>
            <a:ext cx="242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METAPH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6280" y="380880"/>
            <a:ext cx="8439120" cy="901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phase (P)     Metaphase (M)    Anaphase (A)    Telophase (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terphase (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228240" y="1294920"/>
            <a:ext cx="89154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_______________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NA is copied and cell prepares to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iv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_______________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romatid arms separate and move to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pposite ends of the ce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_______________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romosomes unwind into chromatin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&amp; nucleus retur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_______________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uclear membrane &amp; nucleolus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isappe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3"/>
          <p:cNvSpPr/>
          <p:nvPr/>
        </p:nvSpPr>
        <p:spPr>
          <a:xfrm>
            <a:off x="232920" y="1676520"/>
            <a:ext cx="248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INTERPH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304920" y="297180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NAPH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Rectangle 5"/>
          <p:cNvSpPr/>
          <p:nvPr/>
        </p:nvSpPr>
        <p:spPr>
          <a:xfrm>
            <a:off x="308880" y="4419720"/>
            <a:ext cx="23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TELOPH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6"/>
          <p:cNvSpPr/>
          <p:nvPr/>
        </p:nvSpPr>
        <p:spPr>
          <a:xfrm>
            <a:off x="461520" y="5638680"/>
            <a:ext cx="211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PROPH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228600" y="304920"/>
            <a:ext cx="861048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phase (P)     Metaphase (M)    Anaphase (A)    Telophase (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terphase (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-360" y="1295280"/>
            <a:ext cx="89154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__________________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wo nuclei are visi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__________________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irst dividing ph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___________________  Centrosomes containing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entrioles &amp; spindle fibers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ppear next to nucle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__________________Cytoplasm is split between two cel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_________________ Spindle fibers and centrioles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isappe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3"/>
          <p:cNvSpPr/>
          <p:nvPr/>
        </p:nvSpPr>
        <p:spPr>
          <a:xfrm>
            <a:off x="537480" y="1219320"/>
            <a:ext cx="23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TELOPH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4"/>
          <p:cNvSpPr/>
          <p:nvPr/>
        </p:nvSpPr>
        <p:spPr>
          <a:xfrm>
            <a:off x="457200" y="220968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PROPH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ctangle 5"/>
          <p:cNvSpPr/>
          <p:nvPr/>
        </p:nvSpPr>
        <p:spPr>
          <a:xfrm>
            <a:off x="461520" y="3048120"/>
            <a:ext cx="211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PROPH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6"/>
          <p:cNvSpPr/>
          <p:nvPr/>
        </p:nvSpPr>
        <p:spPr>
          <a:xfrm>
            <a:off x="308520" y="4876920"/>
            <a:ext cx="264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YTOKINE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08880" y="5791320"/>
            <a:ext cx="23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TELOPH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8"/>
          <p:cNvSpPr/>
          <p:nvPr/>
        </p:nvSpPr>
        <p:spPr>
          <a:xfrm>
            <a:off x="304920" y="228600"/>
            <a:ext cx="861048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phase (P)     Metaphase (M)    Anaphase (A)    Telophase (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terphase (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276720" y="457200"/>
            <a:ext cx="54864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ell division in bacteria cells is call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_______________________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3582720" y="1371600"/>
            <a:ext cx="3189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Binary fi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689760" y="3635280"/>
            <a:ext cx="6837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hase of the cell cycle in whi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DNA is copi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1066680" y="5319720"/>
            <a:ext cx="449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S  (synthesis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6" descr="binary fission"/>
          <p:cNvPicPr/>
          <p:nvPr/>
        </p:nvPicPr>
        <p:blipFill>
          <a:blip r:embed="rId1"/>
          <a:stretch/>
        </p:blipFill>
        <p:spPr>
          <a:xfrm>
            <a:off x="533520" y="457200"/>
            <a:ext cx="2295360" cy="18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_______  Cell is reading the DNA code an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oing its job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_______  Cell makes a copy of its DNA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_______   Cells leave the cell cycle and stop divi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_______   Division of chromosomes happ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4"/>
          <p:cNvSpPr/>
          <p:nvPr/>
        </p:nvSpPr>
        <p:spPr>
          <a:xfrm>
            <a:off x="457200" y="1295280"/>
            <a:ext cx="1143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G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5"/>
          <p:cNvSpPr/>
          <p:nvPr/>
        </p:nvSpPr>
        <p:spPr>
          <a:xfrm>
            <a:off x="687600" y="27432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Rectangle 6"/>
          <p:cNvSpPr/>
          <p:nvPr/>
        </p:nvSpPr>
        <p:spPr>
          <a:xfrm>
            <a:off x="618480" y="3809880"/>
            <a:ext cx="6152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G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228600" y="152280"/>
          <a:ext cx="8610480" cy="533520"/>
        </p:xfrm>
        <a:graphic>
          <a:graphicData uri="http://schemas.openxmlformats.org/drawingml/2006/table">
            <a:tbl>
              <a:tblPr/>
              <a:tblGrid>
                <a:gridCol w="8610480"/>
              </a:tblGrid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       G</a:t>
                      </a:r>
                      <a:r>
                        <a:rPr b="1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G</a:t>
                      </a:r>
                      <a:r>
                        <a:rPr b="1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G</a:t>
                      </a:r>
                      <a:r>
                        <a:rPr b="1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Mitosis (M)     Cytokinesis (C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8" name="Rectangle 13"/>
          <p:cNvSpPr/>
          <p:nvPr/>
        </p:nvSpPr>
        <p:spPr>
          <a:xfrm>
            <a:off x="534960" y="4800600"/>
            <a:ext cx="56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_______   Division of cytoplasm happ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_______   Cell makes the molecules and organelles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eeded for cell divi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_______   Made up of telophase, anaphase, prophase,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nd metapha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4"/>
          <p:cNvSpPr/>
          <p:nvPr/>
        </p:nvSpPr>
        <p:spPr>
          <a:xfrm>
            <a:off x="457200" y="129528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ctangle 5"/>
          <p:cNvSpPr/>
          <p:nvPr/>
        </p:nvSpPr>
        <p:spPr>
          <a:xfrm>
            <a:off x="389880" y="2362320"/>
            <a:ext cx="6152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G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228600" y="152280"/>
          <a:ext cx="8610480" cy="533520"/>
        </p:xfrm>
        <a:graphic>
          <a:graphicData uri="http://schemas.openxmlformats.org/drawingml/2006/table">
            <a:tbl>
              <a:tblPr/>
              <a:tblGrid>
                <a:gridCol w="8610480"/>
              </a:tblGrid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       G</a:t>
                      </a:r>
                      <a:r>
                        <a:rPr b="1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G</a:t>
                      </a:r>
                      <a:r>
                        <a:rPr b="1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G</a:t>
                      </a:r>
                      <a:r>
                        <a:rPr b="1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Mitosis (M)     Cytokinesis (C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4" name="Rectangle 12"/>
          <p:cNvSpPr/>
          <p:nvPr/>
        </p:nvSpPr>
        <p:spPr>
          <a:xfrm>
            <a:off x="611280" y="3657600"/>
            <a:ext cx="56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3123720" y="1371600"/>
            <a:ext cx="266724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E E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Picture 9" descr="chromatin to chromosomes"/>
          <p:cNvPicPr/>
          <p:nvPr/>
        </p:nvPicPr>
        <p:blipFill>
          <a:blip r:embed="rId1"/>
          <a:stretch/>
        </p:blipFill>
        <p:spPr>
          <a:xfrm>
            <a:off x="1600200" y="2362320"/>
            <a:ext cx="6148440" cy="23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609120" y="685800"/>
            <a:ext cx="807732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proteins that control the cell cyc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1982520" y="1454040"/>
            <a:ext cx="164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cycl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4"/>
          <p:cNvSpPr/>
          <p:nvPr/>
        </p:nvSpPr>
        <p:spPr>
          <a:xfrm>
            <a:off x="310320" y="3124080"/>
            <a:ext cx="524196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hase of the cell cyc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n which the nuclear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membrane is present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nd DNA is spread out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nto chromati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5"/>
          <p:cNvSpPr/>
          <p:nvPr/>
        </p:nvSpPr>
        <p:spPr>
          <a:xfrm>
            <a:off x="4267080" y="5638680"/>
            <a:ext cx="449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interpha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7" descr="inter diag"/>
          <p:cNvPicPr/>
          <p:nvPr/>
        </p:nvPicPr>
        <p:blipFill>
          <a:blip r:embed="rId1"/>
          <a:stretch/>
        </p:blipFill>
        <p:spPr>
          <a:xfrm>
            <a:off x="5715000" y="3048120"/>
            <a:ext cx="2914560" cy="214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304560" y="456840"/>
            <a:ext cx="8458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ype of cell division in eukaryotic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ells that results in 2 identical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aughter cell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1297800" y="2895480"/>
            <a:ext cx="1706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mito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685800" y="4267080"/>
            <a:ext cx="7067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List the phases of mitosis in order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tarting with prophas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304920" y="5486400"/>
            <a:ext cx="784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Prophase, metaphase, anaphase, telophase, cytokin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685800" y="685440"/>
            <a:ext cx="769608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hase of mitosis that follows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napha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3"/>
          <p:cNvSpPr/>
          <p:nvPr/>
        </p:nvSpPr>
        <p:spPr>
          <a:xfrm>
            <a:off x="3735720" y="1828800"/>
            <a:ext cx="221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telopha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701640" y="3635280"/>
            <a:ext cx="818640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hase of the cell cycle that follows G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5"/>
          <p:cNvSpPr/>
          <p:nvPr/>
        </p:nvSpPr>
        <p:spPr>
          <a:xfrm>
            <a:off x="1447920" y="4876920"/>
            <a:ext cx="44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Mitosis  (prophase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28600" y="380880"/>
            <a:ext cx="50292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is network of fibers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at attach and pull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chromosomes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part is called th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itotic ______________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2135880" y="2362320"/>
            <a:ext cx="1733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spind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4"/>
          <p:cNvSpPr/>
          <p:nvPr/>
        </p:nvSpPr>
        <p:spPr>
          <a:xfrm>
            <a:off x="3883680" y="3886200"/>
            <a:ext cx="4761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is cell is in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5"/>
          <p:cNvSpPr/>
          <p:nvPr/>
        </p:nvSpPr>
        <p:spPr>
          <a:xfrm>
            <a:off x="4114800" y="45720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propha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6" descr="spindle labeled"/>
          <p:cNvPicPr/>
          <p:nvPr/>
        </p:nvPicPr>
        <p:blipFill>
          <a:blip r:embed="rId1"/>
          <a:stretch/>
        </p:blipFill>
        <p:spPr>
          <a:xfrm>
            <a:off x="5486400" y="457200"/>
            <a:ext cx="3038400" cy="28004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7" descr="d-pro"/>
          <p:cNvPicPr/>
          <p:nvPr/>
        </p:nvPicPr>
        <p:blipFill>
          <a:blip r:embed="rId2"/>
          <a:stretch/>
        </p:blipFill>
        <p:spPr>
          <a:xfrm>
            <a:off x="380880" y="3505320"/>
            <a:ext cx="3240360" cy="29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685440" y="685800"/>
            <a:ext cx="80010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, S, and G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make up this phase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of the cell cycl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2974320" y="2286000"/>
            <a:ext cx="246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interpha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"/>
          <p:cNvSpPr/>
          <p:nvPr/>
        </p:nvSpPr>
        <p:spPr>
          <a:xfrm>
            <a:off x="457200" y="4191120"/>
            <a:ext cx="8518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rea near the nucleus that contains the centrioles and helps to organize spindle formation   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5"/>
          <p:cNvSpPr/>
          <p:nvPr/>
        </p:nvSpPr>
        <p:spPr>
          <a:xfrm>
            <a:off x="4648320" y="5486400"/>
            <a:ext cx="44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centrosom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685440"/>
            <a:ext cx="807732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e place in the cell membrane of an animal cell that pinches in during cytokinesis is called 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3"/>
          <p:cNvSpPr/>
          <p:nvPr/>
        </p:nvSpPr>
        <p:spPr>
          <a:xfrm>
            <a:off x="1144440" y="2438280"/>
            <a:ext cx="379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cleavage  furro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228960" y="3657600"/>
            <a:ext cx="83142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lant cells can</a:t>
            </a:r>
            <a:r>
              <a:rPr b="1" lang="ja-JP" sz="4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 pinch to divide,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nstead they form a 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o divid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5"/>
          <p:cNvSpPr/>
          <p:nvPr/>
        </p:nvSpPr>
        <p:spPr>
          <a:xfrm>
            <a:off x="4648320" y="4267080"/>
            <a:ext cx="4495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cell pla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3T19:30:30Z</dcterms:created>
  <dc:creator>kriedell</dc:creator>
  <dc:description/>
  <dc:language>en-US</dc:language>
  <cp:lastModifiedBy>Dustin Zahm</cp:lastModifiedBy>
  <dcterms:modified xsi:type="dcterms:W3CDTF">2014-02-21T19:40:37Z</dcterms:modified>
  <cp:revision>54</cp:revision>
  <dc:subject/>
  <dc:title>asdfs</dc:title>
</cp:coreProperties>
</file>